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DE5F0-CE3C-42F2-8479-8A613AAA67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FAB45-D72D-4372-A184-3FAF30DDC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vironment.nationalgeographic.com/environment/global-warming/ozone-depletion-over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esin.org/docs/011-466/011-46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reennature.com/article59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limate.org/topics/ozone-deple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D462A-34C1-4EC4-8BA5-B31A009809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68F-DF3F-49CF-8D85-D52D51F9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0C4-CB8C-4B67-8F50-BAC42FBD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615-FB29-48CF-9291-6FA33912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04D-A939-4181-9086-C354AF10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067-C9D2-4CDE-ACC4-80697F42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A22-90D3-47A5-8157-DF4EF63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032-7B28-44F7-B622-1D202AB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FA7-EAFD-4AF4-A89D-3751974A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78B-A33D-4073-B1E7-0551A7C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0F2-1A4E-4FAE-BE5F-C357CCC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449-71F1-49D9-A01D-CC716D41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484-297D-494D-99D4-D2551D3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D68C8-9ABE-4FE1-AE6E-3C724724970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AAFD5-49F0-469E-8F67-07CFBE3E6D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By : Jessica Harrison &amp; Kelly Grani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we don’t save the Oz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 life would be negatively effec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mpuratures would be drier and more hotter cau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re forest f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Limited activity for all surface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kin canc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cipe for an Ozone hol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youtube.com/watch?v=qUfVMogIdr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environment.nationalgeographic.com/environment/global-warming/ozone-depletion-overview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ciesin.org/docs/011-466/011-466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greennature.com/article592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climate.org/topics/ozone-depletion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M WITH 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 BRUSKI ? &lt;3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Ozon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s made up of oxygen at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molecules of oxygen = O3 = oz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rounds the stratosphere of the Earth’s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1930320"/>
            <a:ext cx="4290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the Ozone does for 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’s belt of natural gases that serve as a shield from harmful UV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bs the harmful ultraviolet rays (UV-B) from the s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bs 97% - 99% of sun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145120" y="1219320"/>
            <a:ext cx="35416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zone ho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where the most sunlight is let 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d wea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F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lu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770360" y="1417680"/>
            <a:ext cx="43736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zone Hole Over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6600" y="1600200"/>
            <a:ext cx="903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we are destroying the Oz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 believe that humans are the main reason of the oceans deple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 made chemicals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FC’s (Chlorofluorocarbons)  an organic compound that is one of the main reasons for the Ozones deple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ural Causes lik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Cold weather in Antarct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re CFC’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’re the number one contributors to the Ozone deple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FC’s reach the Ozo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un light breaks it down makes atomic chlori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tomic chlorine destroys Ozo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200480" y="990720"/>
            <a:ext cx="4714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tural Causes for Ozone Deple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d weather in Antarc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polar stratosphere clouds that release atomic chlo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chlorine molecule can destroy thousands of oz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01:51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16T14:24:09Z</dcterms:modified>
  <cp:revision>20</cp:revision>
  <dc:subject/>
  <dc:title>Ozone Depletion</dc:title>
</cp:coreProperties>
</file>